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411-6312-46B9-A53A-91DA1FA6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9F3-26C2-4994-8982-4A6E2E2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76E-0B3B-4849-9304-10893260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124-ECEB-4FB5-A063-132D7484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C99-14E4-488F-8B44-59A3F5A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D77-FDED-4C2C-869D-92650B5E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4FF-0518-4601-82CA-ED4881C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19F-8423-4FD0-8BFF-2FF66A5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2FC-1C66-409F-A2CF-16E31B36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CC7-C124-4016-AEBC-03CA392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8A2-C6FD-4D15-9A61-9B4E3E1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77C-1AF9-4646-B646-E8161DA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763-6F82-4C65-805E-02431506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4343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Voila, je suis en reta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9625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Arrêter de jouer et attendre, c’est po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480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S’il vous plait, attendez-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4572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Que f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Es-tu en retard toi auss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5486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Alors, je vais t’attend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343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Mon </a:t>
            </a:r>
            <a:r>
              <a:rPr b="1" lang="fr-FR" sz="3200" spc="-1" strike="noStrike">
                <a:solidFill>
                  <a:srgbClr val="66ff66"/>
                </a:solidFill>
                <a:latin typeface="Arial"/>
              </a:rPr>
              <a:t>réveil retar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5410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m’habille en vites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L’autobus est parti sans 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’arrive le derni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105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800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S’il vous plait, attendez-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4419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n’ai pas fi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419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Mon enseignante dit de ne pas cour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105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vais encore être en reta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812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12:20Z</dcterms:created>
  <dc:creator>CVJH-LAB</dc:creator>
  <dc:description/>
  <dc:language>en-US</dc:language>
  <cp:lastModifiedBy>nield411</cp:lastModifiedBy>
  <dcterms:modified xsi:type="dcterms:W3CDTF">2008-03-07T18:52:51Z</dcterms:modified>
  <cp:revision>4</cp:revision>
  <dc:subject/>
  <dc:title>Slide 1</dc:title>
</cp:coreProperties>
</file>